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5145088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4920" y="302760"/>
            <a:ext cx="70563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4920" y="1382760"/>
            <a:ext cx="834876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4920" y="2625120"/>
            <a:ext cx="834876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4920" y="302760"/>
            <a:ext cx="70563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4920" y="1382760"/>
            <a:ext cx="4074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160" y="1382760"/>
            <a:ext cx="4074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4920" y="2625120"/>
            <a:ext cx="4074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160" y="2625120"/>
            <a:ext cx="4074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4920" y="302760"/>
            <a:ext cx="70563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4920" y="1382760"/>
            <a:ext cx="2688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7680" y="1382760"/>
            <a:ext cx="2688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0800" y="1382760"/>
            <a:ext cx="2688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4920" y="2625120"/>
            <a:ext cx="2688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7680" y="2625120"/>
            <a:ext cx="2688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0800" y="2625120"/>
            <a:ext cx="2688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302760"/>
            <a:ext cx="70563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94920" y="1382760"/>
            <a:ext cx="8348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302760"/>
            <a:ext cx="70563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382760"/>
            <a:ext cx="8348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302760"/>
            <a:ext cx="70563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1382760"/>
            <a:ext cx="40741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160" y="1382760"/>
            <a:ext cx="40741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4920" y="302760"/>
            <a:ext cx="70563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94920" y="302760"/>
            <a:ext cx="705636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302760"/>
            <a:ext cx="70563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1382760"/>
            <a:ext cx="4074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160" y="1382760"/>
            <a:ext cx="40741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4920" y="2625120"/>
            <a:ext cx="4074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4920" y="302760"/>
            <a:ext cx="70563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4920" y="1382760"/>
            <a:ext cx="8348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302760"/>
            <a:ext cx="70563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82760"/>
            <a:ext cx="40741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160" y="1382760"/>
            <a:ext cx="4074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160" y="2625120"/>
            <a:ext cx="4074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302760"/>
            <a:ext cx="70563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382760"/>
            <a:ext cx="4074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1382760"/>
            <a:ext cx="4074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2625120"/>
            <a:ext cx="834876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302760"/>
            <a:ext cx="70563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1382760"/>
            <a:ext cx="834876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4920" y="2625120"/>
            <a:ext cx="834876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4920" y="302760"/>
            <a:ext cx="70563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382760"/>
            <a:ext cx="4074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160" y="1382760"/>
            <a:ext cx="4074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94920" y="2625120"/>
            <a:ext cx="4074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160" y="2625120"/>
            <a:ext cx="4074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302760"/>
            <a:ext cx="70563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4920" y="1382760"/>
            <a:ext cx="2688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7680" y="1382760"/>
            <a:ext cx="2688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800" y="1382760"/>
            <a:ext cx="2688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94920" y="2625120"/>
            <a:ext cx="2688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7680" y="2625120"/>
            <a:ext cx="2688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800" y="2625120"/>
            <a:ext cx="2688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302760"/>
            <a:ext cx="70563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94920" y="1382760"/>
            <a:ext cx="8348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302760"/>
            <a:ext cx="70563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1382760"/>
            <a:ext cx="8348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302760"/>
            <a:ext cx="70563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4920" y="1382760"/>
            <a:ext cx="40741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160" y="1382760"/>
            <a:ext cx="40741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4920" y="302760"/>
            <a:ext cx="70563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4920" y="302760"/>
            <a:ext cx="70563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4920" y="1382760"/>
            <a:ext cx="8348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94920" y="302760"/>
            <a:ext cx="705636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302760"/>
            <a:ext cx="70563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4920" y="1382760"/>
            <a:ext cx="4074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1382760"/>
            <a:ext cx="40741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4920" y="2625120"/>
            <a:ext cx="4074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302760"/>
            <a:ext cx="70563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382760"/>
            <a:ext cx="40741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1382760"/>
            <a:ext cx="4074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3160" y="2625120"/>
            <a:ext cx="4074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920" y="302760"/>
            <a:ext cx="70563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382760"/>
            <a:ext cx="4074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1382760"/>
            <a:ext cx="4074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4920" y="2625120"/>
            <a:ext cx="834876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920" y="302760"/>
            <a:ext cx="70563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382760"/>
            <a:ext cx="834876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94920" y="2625120"/>
            <a:ext cx="834876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302760"/>
            <a:ext cx="70563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382760"/>
            <a:ext cx="4074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160" y="1382760"/>
            <a:ext cx="4074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94920" y="2625120"/>
            <a:ext cx="4074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3160" y="2625120"/>
            <a:ext cx="4074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4920" y="302760"/>
            <a:ext cx="70563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4920" y="1382760"/>
            <a:ext cx="2688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17680" y="1382760"/>
            <a:ext cx="2688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40800" y="1382760"/>
            <a:ext cx="2688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94920" y="2625120"/>
            <a:ext cx="2688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17680" y="2625120"/>
            <a:ext cx="2688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40800" y="2625120"/>
            <a:ext cx="2688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4920" y="302760"/>
            <a:ext cx="70563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4920" y="1382760"/>
            <a:ext cx="40741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160" y="1382760"/>
            <a:ext cx="40741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4920" y="302760"/>
            <a:ext cx="70563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4920" y="302760"/>
            <a:ext cx="705636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4920" y="302760"/>
            <a:ext cx="70563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4920" y="1382760"/>
            <a:ext cx="4074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160" y="1382760"/>
            <a:ext cx="40741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4920" y="2625120"/>
            <a:ext cx="4074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4920" y="302760"/>
            <a:ext cx="70563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4920" y="1382760"/>
            <a:ext cx="40741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160" y="1382760"/>
            <a:ext cx="4074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160" y="2625120"/>
            <a:ext cx="4074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4920" y="302760"/>
            <a:ext cx="70563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4920" y="1382760"/>
            <a:ext cx="4074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160" y="1382760"/>
            <a:ext cx="40741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4920" y="2625120"/>
            <a:ext cx="834876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eck 1"/>
          <p:cNvSpPr/>
          <p:nvPr/>
        </p:nvSpPr>
        <p:spPr>
          <a:xfrm>
            <a:off x="179280" y="141120"/>
            <a:ext cx="8785440" cy="48610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94920" y="4489560"/>
            <a:ext cx="60483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646569"/>
                </a:solidFill>
                <a:latin typeface="Source Sans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Name des/der Vortragend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Source Sans Pro"/>
              </a:rPr>
              <a:t>Titel der Veranstaltung (änderbar unter Ansicht &gt; Master &gt; Folienmas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4920" y="1382760"/>
            <a:ext cx="8348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3" marL="1440000" indent="-205560">
              <a:spcBef>
                <a:spcPts val="499"/>
              </a:spcBef>
              <a:buClr>
                <a:srgbClr val="000000"/>
              </a:buClr>
              <a:buFont typeface="Arial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4" marL="1851480" indent="-2055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5" marL="1851480" indent="-2055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6" marL="1851480" indent="-2055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94920" y="302760"/>
            <a:ext cx="70563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569"/>
                </a:solidFill>
                <a:latin typeface="Source Sans Pro"/>
              </a:rPr>
              <a:t>Click to edit the title text format</a:t>
            </a: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4" name="Textfeld 14"/>
          <p:cNvSpPr/>
          <p:nvPr/>
        </p:nvSpPr>
        <p:spPr>
          <a:xfrm>
            <a:off x="6510240" y="4568760"/>
            <a:ext cx="22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ef4030"/>
                </a:solidFill>
                <a:latin typeface="Source Sans Pro Semibold"/>
              </a:rPr>
              <a:t>sozialministerium.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K:\Graphics\Corporate Design\BMASK 2014\Logo\Sozialministerium\Sozialministerium\Logo rein rot\Sozialministerium-rot-RGB-100x114px.png"/>
          <p:cNvPicPr/>
          <p:nvPr/>
        </p:nvPicPr>
        <p:blipFill>
          <a:blip r:embed="rId2"/>
          <a:stretch/>
        </p:blipFill>
        <p:spPr>
          <a:xfrm>
            <a:off x="7889760" y="303120"/>
            <a:ext cx="854280" cy="97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hteck 7"/>
          <p:cNvSpPr/>
          <p:nvPr/>
        </p:nvSpPr>
        <p:spPr>
          <a:xfrm>
            <a:off x="179280" y="141120"/>
            <a:ext cx="8785440" cy="48438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feld 14"/>
          <p:cNvSpPr/>
          <p:nvPr/>
        </p:nvSpPr>
        <p:spPr>
          <a:xfrm>
            <a:off x="6510240" y="4568760"/>
            <a:ext cx="22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ef4030"/>
                </a:solidFill>
                <a:latin typeface="Source Sans Pro Semibold"/>
              </a:rPr>
              <a:t>sozialministerium.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424440" y="1924200"/>
            <a:ext cx="39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46569"/>
                </a:solidFill>
                <a:latin typeface="Calibri"/>
              </a:rPr>
              <a:t>Seminar on general active ageing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Datumsplatzhalter 3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ußzeilenplatzhalter 4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8"/>
          <p:cNvSpPr/>
          <p:nvPr/>
        </p:nvSpPr>
        <p:spPr>
          <a:xfrm>
            <a:off x="401760" y="230184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Employability of older wo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9"/>
          <p:cNvSpPr/>
          <p:nvPr/>
        </p:nvSpPr>
        <p:spPr>
          <a:xfrm>
            <a:off x="401760" y="3165480"/>
            <a:ext cx="7921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asures in Austria in an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Calibri"/>
              </a:rPr>
              <a:t>Ester Berg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Calibri"/>
              </a:rPr>
              <a:t>7 April 2014, Ri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K:\Graphics\Corporate Design\BMASK 2014\Logo\Sozialministerium\Sozialministerium\Logo rein rot\Sozialministerium-rot-RGB-100x114px.png"/>
          <p:cNvPicPr/>
          <p:nvPr/>
        </p:nvPicPr>
        <p:blipFill>
          <a:blip r:embed="rId2"/>
          <a:stretch/>
        </p:blipFill>
        <p:spPr>
          <a:xfrm>
            <a:off x="7889760" y="303120"/>
            <a:ext cx="854280" cy="974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94920" y="1382760"/>
            <a:ext cx="8348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3" marL="1440000" indent="-205560">
              <a:spcBef>
                <a:spcPts val="499"/>
              </a:spcBef>
              <a:buClr>
                <a:srgbClr val="000000"/>
              </a:buClr>
              <a:buFont typeface="Arial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4" marL="1851480" indent="-2055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5" marL="1851480" indent="-2055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6" marL="1851480" indent="-2055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394920" y="302760"/>
            <a:ext cx="70563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569"/>
                </a:solidFill>
                <a:latin typeface="Source Sans Pro"/>
              </a:rPr>
              <a:t>Click to edit the title text format</a:t>
            </a: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2"/>
          </p:nvPr>
        </p:nvSpPr>
        <p:spPr>
          <a:xfrm>
            <a:off x="394920" y="4489560"/>
            <a:ext cx="60483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hteck 1"/>
          <p:cNvSpPr/>
          <p:nvPr/>
        </p:nvSpPr>
        <p:spPr>
          <a:xfrm>
            <a:off x="179280" y="141120"/>
            <a:ext cx="8785440" cy="48610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feld 14"/>
          <p:cNvSpPr/>
          <p:nvPr/>
        </p:nvSpPr>
        <p:spPr>
          <a:xfrm>
            <a:off x="6510240" y="4568760"/>
            <a:ext cx="22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ef4030"/>
                </a:solidFill>
                <a:latin typeface="Source Sans Pro Semibold"/>
              </a:rPr>
              <a:t>sozialministerium.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K:\Graphics\Corporate Design\BMASK 2014\Logo\Sozialministerium\Sozialministerium\Logo rein rot\Sozialministerium-rot-RGB-100x114px.png"/>
          <p:cNvPicPr/>
          <p:nvPr/>
        </p:nvPicPr>
        <p:blipFill>
          <a:blip r:embed="rId2"/>
          <a:stretch/>
        </p:blipFill>
        <p:spPr>
          <a:xfrm>
            <a:off x="7889760" y="303120"/>
            <a:ext cx="854280" cy="9748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394920" y="1382760"/>
            <a:ext cx="83487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Source Sans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Source Sans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3" marL="1440000" indent="-205560">
              <a:spcBef>
                <a:spcPts val="499"/>
              </a:spcBef>
              <a:buClr>
                <a:srgbClr val="000000"/>
              </a:buClr>
              <a:buFont typeface="Arial"/>
              <a:buChar char="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4" marL="1851480" indent="-2055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5" marL="1851480" indent="-2055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  <a:p>
            <a:pPr lvl="6" marL="1851480" indent="-2055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94920" y="302760"/>
            <a:ext cx="70563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569"/>
                </a:solidFill>
                <a:latin typeface="Source Sans Pro"/>
              </a:rPr>
              <a:t>Click to edit the title text format</a:t>
            </a: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ester.bergmann@sozialministerium.a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4920" y="302760"/>
            <a:ext cx="705636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646569"/>
                </a:solidFill>
                <a:latin typeface="Calibri"/>
              </a:rPr>
              <a:t>Labour Market Situation</a:t>
            </a: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95280" y="1382400"/>
            <a:ext cx="835344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Calibri"/>
                <a:ea typeface="Arial"/>
              </a:rPr>
              <a:t>General unemployment rate:</a:t>
            </a:r>
            <a:r>
              <a:rPr b="1" lang="de-AT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de-AT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de-AT" sz="1600" spc="-1" strike="noStrike">
                <a:solidFill>
                  <a:srgbClr val="000000"/>
                </a:solidFill>
                <a:latin typeface="Calibri"/>
                <a:ea typeface="Arial"/>
              </a:rPr>
              <a:t>4.9% (12/2013)</a:t>
            </a:r>
            <a:endParaRPr b="1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Calibri"/>
                <a:ea typeface="Arial"/>
              </a:rPr>
              <a:t>Youth unemployment rate (15-24):</a:t>
            </a:r>
            <a:r>
              <a:rPr b="1" lang="de-AT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de-AT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de-AT" sz="1600" spc="-1" strike="noStrike">
                <a:solidFill>
                  <a:srgbClr val="000000"/>
                </a:solidFill>
                <a:latin typeface="Calibri"/>
                <a:ea typeface="Arial"/>
              </a:rPr>
              <a:t>8.9% (12/2013)</a:t>
            </a:r>
            <a:endParaRPr b="1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Calibri"/>
                <a:ea typeface="Arial"/>
              </a:rPr>
              <a:t>General employment rate (20-64):</a:t>
            </a:r>
            <a:r>
              <a:rPr b="1" lang="de-AT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de-AT" sz="16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1" lang="de-AT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de-AT" sz="1600" spc="-1" strike="noStrike">
                <a:solidFill>
                  <a:srgbClr val="000000"/>
                </a:solidFill>
                <a:latin typeface="Calibri"/>
                <a:ea typeface="Arial"/>
              </a:rPr>
              <a:t>75.6% (2012)</a:t>
            </a:r>
            <a:endParaRPr b="1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Calibri"/>
                <a:ea typeface="Arial"/>
              </a:rPr>
              <a:t>Older workers‘ employment rate (55-64): </a:t>
            </a:r>
            <a:r>
              <a:rPr b="1" lang="de-AT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de-AT" sz="1600" spc="-1" strike="noStrike">
                <a:solidFill>
                  <a:srgbClr val="000000"/>
                </a:solidFill>
                <a:latin typeface="Calibri"/>
                <a:ea typeface="Arial"/>
              </a:rPr>
              <a:t>43.1% (2012)</a:t>
            </a:r>
            <a:endParaRPr b="1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alibri"/>
                <a:ea typeface="Arial"/>
              </a:rPr>
              <a:t>increased by 50% from 2000 to 2012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alibri"/>
                <a:ea typeface="Arial"/>
              </a:rPr>
              <a:t>above-average duration of working life (36.6 years in 2011)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Calibri"/>
                <a:ea typeface="Arial"/>
              </a:rPr>
              <a:t>Currently rising employment but also unemployment, over-proportional increase of workforce 50+</a:t>
            </a:r>
            <a:endParaRPr b="1" lang="en-US" sz="1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2" name="Fußzeilenplatzhalter 3"/>
          <p:cNvSpPr/>
          <p:nvPr/>
        </p:nvSpPr>
        <p:spPr>
          <a:xfrm>
            <a:off x="395280" y="4489560"/>
            <a:ext cx="60483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Calibri"/>
              </a:rPr>
              <a:t>Ester Berg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Calibri"/>
              </a:rPr>
              <a:t>7 April 2014, Ri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302760"/>
            <a:ext cx="705636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de-AT" sz="2500" spc="-1" strike="noStrike">
                <a:solidFill>
                  <a:srgbClr val="646569"/>
                </a:solidFill>
                <a:latin typeface="Calibri"/>
              </a:rPr>
              <a:t>Policy Measures and Reforms </a:t>
            </a:r>
            <a:br>
              <a:rPr sz="2500"/>
            </a:b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95280" y="1347480"/>
            <a:ext cx="835344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Calibri"/>
                <a:ea typeface="Arial"/>
              </a:rPr>
              <a:t>Entering into force of Social Reform Act (SRÄG 2012) on 1 January 2014 </a:t>
            </a:r>
            <a:endParaRPr b="1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alibri"/>
                <a:ea typeface="Arial"/>
              </a:rPr>
              <a:t>Implementation of major reform processes 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Calibri"/>
                <a:ea typeface="Arial"/>
              </a:rPr>
              <a:t>abolition of temporary invalidity pensions for people under 50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Calibri"/>
                <a:ea typeface="Arial"/>
              </a:rPr>
              <a:t>Austrian LLL Strategy</a:t>
            </a:r>
            <a:endParaRPr b="1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alibri"/>
                <a:ea typeface="Arial"/>
              </a:rPr>
              <a:t>Follows a life-cycle approach, aims at enhancing participation in life-long learning 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alibri"/>
                <a:ea typeface="Arial"/>
              </a:rPr>
              <a:t>To ensure older people‘s access to targeted information and counselling,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Calibri"/>
                <a:ea typeface="Arial"/>
              </a:rPr>
              <a:t>regarding all relevant continuing education and training measures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5" name="Fußzeilenplatzhalter 3"/>
          <p:cNvSpPr/>
          <p:nvPr/>
        </p:nvSpPr>
        <p:spPr>
          <a:xfrm>
            <a:off x="395280" y="4489560"/>
            <a:ext cx="60483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Calibri"/>
              </a:rPr>
              <a:t>Ester Berg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Calibri"/>
              </a:rPr>
              <a:t>7 April 2014, Ri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4920" y="302760"/>
            <a:ext cx="705636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de-AT" sz="2500" spc="-1" strike="noStrike">
                <a:solidFill>
                  <a:srgbClr val="646569"/>
                </a:solidFill>
                <a:latin typeface="Calibri"/>
              </a:rPr>
              <a:t>Policy Measures and Reforms </a:t>
            </a:r>
            <a:br>
              <a:rPr sz="2500"/>
            </a:b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95280" y="1347480"/>
            <a:ext cx="835344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Calibri"/>
                <a:ea typeface="Arial"/>
              </a:rPr>
              <a:t>Government‘s Programme stipulates that labour market integration of unemployed 50+ </a:t>
            </a:r>
            <a:br>
              <a:rPr sz="1600"/>
            </a:br>
            <a:r>
              <a:rPr b="1" lang="de-AT" sz="1600" spc="-1" strike="noStrike">
                <a:solidFill>
                  <a:srgbClr val="000000"/>
                </a:solidFill>
                <a:latin typeface="Calibri"/>
                <a:ea typeface="Arial"/>
              </a:rPr>
              <a:t>is to be reinforced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Calibri"/>
                <a:ea typeface="Arial"/>
              </a:rPr>
              <a:t>Information and publicity campaigns shall contribute to raising awareness and promoting</a:t>
            </a:r>
            <a:br>
              <a:rPr sz="1600"/>
            </a:br>
            <a:r>
              <a:rPr b="1" lang="de-AT" sz="1600" spc="-1" strike="noStrike">
                <a:solidFill>
                  <a:srgbClr val="000000"/>
                </a:solidFill>
                <a:latin typeface="Calibri"/>
                <a:ea typeface="Arial"/>
              </a:rPr>
              <a:t>the employment of older workers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Calibri"/>
                <a:ea typeface="Arial"/>
              </a:rPr>
              <a:t>Analytical study - to establish facts on age-income profiles and to explore incidence of seniority-based wages</a:t>
            </a:r>
            <a:endParaRPr b="1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Calibri"/>
                <a:ea typeface="Arial"/>
              </a:rPr>
              <a:t>Focus on mental health - study on counteracting burn-out </a:t>
            </a:r>
            <a:endParaRPr b="1" lang="en-US" sz="1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8" name="Fußzeilenplatzhalter 3"/>
          <p:cNvSpPr/>
          <p:nvPr/>
        </p:nvSpPr>
        <p:spPr>
          <a:xfrm>
            <a:off x="395280" y="4489560"/>
            <a:ext cx="60483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Calibri"/>
              </a:rPr>
              <a:t>Ester Berg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Calibri"/>
              </a:rPr>
              <a:t>7 April 2014, Ri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302760"/>
            <a:ext cx="705636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de-AT" sz="2500" spc="-1" strike="noStrike">
                <a:solidFill>
                  <a:srgbClr val="646569"/>
                </a:solidFill>
                <a:latin typeface="Calibri"/>
              </a:rPr>
              <a:t>Policy Measures and Reforms </a:t>
            </a:r>
            <a:br>
              <a:rPr sz="2500"/>
            </a:b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95280" y="1347480"/>
            <a:ext cx="835344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Calibri"/>
                <a:ea typeface="Arial"/>
              </a:rPr>
              <a:t>Counselling offers for companies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Calibri"/>
                <a:ea typeface="Arial"/>
              </a:rPr>
              <a:t>Semi-annual monitoring of early retirement and labour market situation 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Calibri"/>
                <a:ea typeface="Arial"/>
              </a:rPr>
              <a:t>Partial retirement with working time reduction</a:t>
            </a:r>
            <a:endParaRPr b="1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Calibri"/>
                <a:ea typeface="Arial"/>
              </a:rPr>
              <a:t>Higher „postponement bonus“</a:t>
            </a:r>
            <a:endParaRPr b="1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Calibri"/>
                <a:ea typeface="Arial"/>
              </a:rPr>
              <a:t>„</a:t>
            </a:r>
            <a:r>
              <a:rPr b="1" lang="de-AT" sz="1600" spc="-1" strike="noStrike">
                <a:solidFill>
                  <a:srgbClr val="000000"/>
                </a:solidFill>
                <a:latin typeface="Calibri"/>
                <a:ea typeface="Arial"/>
              </a:rPr>
              <a:t>Hiring bonus“</a:t>
            </a:r>
            <a:endParaRPr b="1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Calibri"/>
                <a:ea typeface="Arial"/>
              </a:rPr>
              <a:t>Compulsory employment share</a:t>
            </a:r>
            <a:endParaRPr b="1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Calibri"/>
                <a:ea typeface="Arial"/>
              </a:rPr>
              <a:t>New charge for the promotion of age-friendly working places</a:t>
            </a:r>
            <a:endParaRPr b="1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Calibri"/>
                <a:ea typeface="Arial"/>
              </a:rPr>
              <a:t>Workplace health promotion</a:t>
            </a:r>
            <a:endParaRPr b="1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Calibri"/>
                <a:ea typeface="Arial"/>
              </a:rPr>
              <a:t>Enhanced prevention and professional reintegration</a:t>
            </a:r>
            <a:endParaRPr b="1" lang="en-US" sz="1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395280" y="4489560"/>
            <a:ext cx="60483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Calibri"/>
              </a:rPr>
              <a:t>Ester Berg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Calibri"/>
              </a:rPr>
              <a:t>7 April 2014, Ri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4920" y="410760"/>
            <a:ext cx="705636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646569"/>
                </a:solidFill>
                <a:latin typeface="Calibri"/>
              </a:rPr>
              <a:t>Measure 1: Reform of invalidity pension system </a:t>
            </a:r>
            <a:br>
              <a:rPr sz="2500"/>
            </a:br>
            <a:r>
              <a:rPr b="1" lang="de-AT" sz="2500" spc="-1" strike="noStrike">
                <a:solidFill>
                  <a:srgbClr val="646569"/>
                </a:solidFill>
                <a:latin typeface="Calibri"/>
              </a:rPr>
              <a:t>(„IP Neu“) – accompanying measures</a:t>
            </a: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347480"/>
            <a:ext cx="835344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Reform of the invalidity pension system (“IP neu”) </a:t>
            </a:r>
            <a:endParaRPr b="1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Major reform process entered into force on 1 January 2014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Medical and professional rehabilitation instead of retirement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lose cooperation of all involved institutions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Accompanying LMP measures (pilot projects from 2013)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omprehensive evaluation planned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Expected outcome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Up to 200,000 persons are to be supported within the labour market initiatives for older and health-impaired persons in 2014-2016</a:t>
            </a:r>
            <a:endParaRPr b="1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4" name="Fußzeilenplatzhalter 3"/>
          <p:cNvSpPr/>
          <p:nvPr/>
        </p:nvSpPr>
        <p:spPr>
          <a:xfrm>
            <a:off x="395280" y="4489560"/>
            <a:ext cx="60483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Calibri"/>
              </a:rPr>
              <a:t>Ester Berg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Calibri"/>
              </a:rPr>
              <a:t>7 April 2014, Ri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4920" y="410760"/>
            <a:ext cx="705636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646569"/>
                </a:solidFill>
                <a:latin typeface="Calibri"/>
              </a:rPr>
              <a:t>Measure 2: Programme „fit2work“ -</a:t>
            </a:r>
            <a:br>
              <a:rPr sz="2500"/>
            </a:br>
            <a:r>
              <a:rPr b="1" lang="de-AT" sz="2500" spc="-1" strike="noStrike">
                <a:solidFill>
                  <a:srgbClr val="646569"/>
                </a:solidFill>
                <a:latin typeface="Calibri"/>
              </a:rPr>
              <a:t>nation-wide roll-out and supplementary offers</a:t>
            </a: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95280" y="1131480"/>
            <a:ext cx="835344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ounselling programme “fit2work”</a:t>
            </a:r>
            <a:endParaRPr b="1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Nation-wide roll-out for individuals and companies in 2013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Services for individuals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Services for companies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Complementary offers (pilot project for psychological and psycho-therapeutic treatment)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ity campaign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Expected outcome / impact assessment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In full operation, fit2work can accommodate up to 19,000 participants per year</a:t>
            </a:r>
            <a:endParaRPr b="1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7" name="Fußzeilenplatzhalter 3"/>
          <p:cNvSpPr/>
          <p:nvPr/>
        </p:nvSpPr>
        <p:spPr>
          <a:xfrm>
            <a:off x="395280" y="4489560"/>
            <a:ext cx="60483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Calibri"/>
              </a:rPr>
              <a:t>Ester Berg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Calibri"/>
              </a:rPr>
              <a:t>7 April 2014, Ri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410760"/>
            <a:ext cx="705636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646569"/>
                </a:solidFill>
                <a:latin typeface="Calibri"/>
              </a:rPr>
              <a:t>Measure 3: Enhanced labour market policies for older workers</a:t>
            </a:r>
            <a:endParaRPr b="1" lang="en-US" sz="2500" spc="-1" strike="noStrike">
              <a:solidFill>
                <a:srgbClr val="646569"/>
              </a:solidFill>
              <a:latin typeface="Source Sans Pro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5280" y="1347480"/>
            <a:ext cx="835344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Enhanced labour market policies for older workers</a:t>
            </a:r>
            <a:endParaRPr b="1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Commitment to reinforce LMP efforts for the age group 50+ and health-impaired persons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Employment: Temporary subsidised employment, wage subsidies, in-work benefits + follow-up coaching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Intermediate labour market: More places and extended duration for older workers in socio-economic enterprises and employment projects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Qualification: Skilled labour package, programmes „Systematic Skills“ and „Upgrade“, demand-oriented qualification</a:t>
            </a:r>
            <a:endParaRPr b="0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395280" y="4489560"/>
            <a:ext cx="60483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Calibri"/>
              </a:rPr>
              <a:t>Ester Berg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Calibri"/>
              </a:rPr>
              <a:t>7 April 2014, Ri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410760"/>
            <a:ext cx="70563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AT" sz="2500" spc="-1" strike="noStrike">
              <a:solidFill>
                <a:srgbClr val="646569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5280" y="1347480"/>
            <a:ext cx="835344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ester.bergmann@sozialministerium.at</a:t>
            </a:r>
            <a:endParaRPr b="1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569"/>
                </a:solidFill>
                <a:latin typeface="Calibri"/>
              </a:rPr>
              <a:t>phone </a:t>
            </a:r>
            <a:r>
              <a:rPr b="1" lang="de-AT" sz="2400" spc="-1" strike="noStrike">
                <a:solidFill>
                  <a:srgbClr val="646569"/>
                </a:solidFill>
                <a:latin typeface="Calibri"/>
              </a:rPr>
              <a:t>0043 1 711 00 6469</a:t>
            </a:r>
            <a:endParaRPr b="1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3" name="Fußzeilenplatzhalter 3"/>
          <p:cNvSpPr/>
          <p:nvPr/>
        </p:nvSpPr>
        <p:spPr>
          <a:xfrm>
            <a:off x="395280" y="4489560"/>
            <a:ext cx="60483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Calibri"/>
              </a:rPr>
              <a:t>Ester Berg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46569"/>
                </a:solidFill>
                <a:latin typeface="Calibri"/>
              </a:rPr>
              <a:t>7 April 2014, Ri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08:30:41Z</dcterms:created>
  <dc:creator>wrd</dc:creator>
  <dc:description/>
  <dc:language>en-US</dc:language>
  <cp:lastModifiedBy>kristabrantevica</cp:lastModifiedBy>
  <cp:lastPrinted>2014-02-20T16:07:57Z</cp:lastPrinted>
  <dcterms:modified xsi:type="dcterms:W3CDTF">2014-04-07T04:34:46Z</dcterms:modified>
  <cp:revision>42</cp:revision>
  <dc:subject/>
  <dc:title>Folie 1</dc:title>
</cp:coreProperties>
</file>